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815C-A560-4DB3-838B-46A702758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50333-3E62-400E-9D77-EECE9A2CA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E404-4E01-403F-985C-7E69DB70A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F101D-156D-4380-81F2-102C59782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99EF8-0239-4F99-899D-09C7A90E4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0876-22DB-4D3A-9B96-DBD40D97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8E5B-72F6-4B46-B46D-9228617E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F922-4B4A-45D8-9699-2CFB5C2F0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7BCE7-935E-44B8-BB63-5F6D7D8D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E5FB-B524-4853-8A01-B5AC9052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BE16-3370-4AC9-9088-FA9A7611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2AB1-A806-4389-9667-FE38DDF8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4CFC-1AF1-4370-8346-9F4016C51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16EE-5AC8-49BE-B8A5-5670868F9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93600"/>
            <a:ext cx="835812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 Marty</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1560" y="1218960"/>
            <a:ext cx="6594480" cy="888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you've done</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438280" y="2743200"/>
            <a:ext cx="5742000" cy="354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7240" y="-1440"/>
            <a:ext cx="10176120" cy="358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ank you for helping group six with their tasks. You were outstanding, helping out not just group six but all of the kids on camp! No matter what, you’d be there. For example, you helped us with the flying kiwi, kayaking, high ropes and the water slide. You made a big splash on the water slide.</a:t>
            </a:r>
            <a:endParaRPr b="0" lang="en-US" sz="3500" spc="-1" strike="noStrike">
              <a:solidFill>
                <a:srgbClr val="000000"/>
              </a:solidFill>
              <a:latin typeface="Times New Roman"/>
            </a:endParaRPr>
          </a:p>
        </p:txBody>
      </p:sp>
      <p:pic>
        <p:nvPicPr>
          <p:cNvPr id="52" name="" descr=""/>
          <p:cNvPicPr/>
          <p:nvPr/>
        </p:nvPicPr>
        <p:blipFill>
          <a:blip r:embed="rId1"/>
          <a:stretch/>
        </p:blipFill>
        <p:spPr>
          <a:xfrm>
            <a:off x="-17640" y="3759120"/>
            <a:ext cx="5000760" cy="3811680"/>
          </a:xfrm>
          <a:prstGeom prst="rect">
            <a:avLst/>
          </a:prstGeom>
          <a:ln w="0">
            <a:noFill/>
          </a:ln>
        </p:spPr>
      </p:pic>
      <p:pic>
        <p:nvPicPr>
          <p:cNvPr id="53" name="" descr=""/>
          <p:cNvPicPr/>
          <p:nvPr/>
        </p:nvPicPr>
        <p:blipFill>
          <a:blip r:embed="rId2"/>
          <a:stretch/>
        </p:blipFill>
        <p:spPr>
          <a:xfrm>
            <a:off x="5079960" y="3759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2840" y="38160"/>
            <a:ext cx="9974160" cy="3265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had free time you would always come out and play with us. I really enjoyed that. At the end of camp we had the camp concert. You won the award for best briber, and that definitely made me laugh. Everyone in our group liked you, and on their behalf I would like to say, thanks for being there.</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480" y="3660840"/>
            <a:ext cx="10072440" cy="40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178000" y="2031840"/>
            <a:ext cx="5194440" cy="3039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 hope you will be able to come again next year.</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ind regards</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nn Tubb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